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789-6954-4409-8E61-8F3E8BEB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239-6263-4D86-A888-53E4112C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0BC-4AB0-4C28-878F-D20B6695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8CA-9E85-415F-A92D-C73EC5CA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2A8-EB77-4388-ABAE-2C0B3AC3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0D1-9F2A-45A6-9CBA-977A81EC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D37-78C1-464D-B31B-AFD2146A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C45-ABE8-4FD3-87CA-22D2670C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85B-ADD8-402D-B20B-7A5D8DEE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DCE-63A2-4C76-BB24-399B1D3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E13-086E-4FE3-9500-F88E380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018-F178-490A-B3E3-F4BA47C9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9E7B-5D03-4B25-83B2-7E401DFB5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600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5146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429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3434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181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on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640" y="1066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1981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8640" y="2819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4600" y="5410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27920" y="60958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066680"/>
            <a:ext cx="12952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066680"/>
            <a:ext cx="12956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106668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10666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106668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1981080"/>
            <a:ext cx="12952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198108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810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19810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28954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28954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289548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28954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8098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80988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38098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648320"/>
            <a:ext cx="1295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4648320"/>
            <a:ext cx="1295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4648320"/>
            <a:ext cx="12956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895480"/>
            <a:ext cx="12952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3809880"/>
            <a:ext cx="12952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648320"/>
            <a:ext cx="129528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1981080"/>
            <a:ext cx="12956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89548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3809880"/>
            <a:ext cx="12956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4648320"/>
            <a:ext cx="12952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198108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2895480"/>
            <a:ext cx="12956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3809880"/>
            <a:ext cx="12952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648320"/>
            <a:ext cx="12956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91404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704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914400" y="2895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4040" y="3809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4040" y="4648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63244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5720" y="6324480"/>
            <a:ext cx="55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pagation delay of the control slot = 3 data slots duration 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106668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98108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12956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380988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648320"/>
            <a:ext cx="12956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54864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548640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486400"/>
            <a:ext cx="12952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5486400"/>
            <a:ext cx="12956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9140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54864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548640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06668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98108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895480"/>
            <a:ext cx="12952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1066680"/>
            <a:ext cx="129564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1981080"/>
            <a:ext cx="121932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80988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548640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1066680"/>
            <a:ext cx="53316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00200" y="3045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25680" y="6192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ol 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200400" y="304560"/>
            <a:ext cx="914400" cy="70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01840" y="619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ty 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1066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066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10666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066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1066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523880"/>
            <a:ext cx="380880" cy="38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523880"/>
            <a:ext cx="380880" cy="38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523880"/>
            <a:ext cx="381240" cy="38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1523880"/>
            <a:ext cx="380880" cy="38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523880"/>
            <a:ext cx="380880" cy="38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648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4648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648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4648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648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105520"/>
            <a:ext cx="38124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105520"/>
            <a:ext cx="38088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105520"/>
            <a:ext cx="38088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5105520"/>
            <a:ext cx="38124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5105520"/>
            <a:ext cx="38088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38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724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296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2514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188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58200" y="2514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15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246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27432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188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58200" y="2743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294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15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01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60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724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487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246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296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29718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188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58200" y="2971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94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02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152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01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960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487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246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0773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532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05920" y="32004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188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458200" y="3200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100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244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152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38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01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724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487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246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773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296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05920" y="34290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188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58200" y="3429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864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86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199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58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722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485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771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294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388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438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01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724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46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532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296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05920" y="3657600"/>
            <a:ext cx="7596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188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458200" y="3657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219320"/>
            <a:ext cx="198144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8760" y="144792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SA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8108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7009920" y="198108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4120" y="2438280"/>
            <a:ext cx="327636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75880" y="4114800"/>
            <a:ext cx="370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o Buffer containing at most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Slots ( CS ) . At each slot th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 is shifted up so that the top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ways represent the CS sent k slots earl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atest control slot received is stored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irst free line starting from to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12360" y="190512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S[ date - k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487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38080" y="10666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838080" y="12189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594360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B = Transmission Buf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BC = Transmission Buffe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9680" y="10666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1295280"/>
            <a:ext cx="297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971800" y="1600200"/>
            <a:ext cx="2895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38080" y="1523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838080" y="16761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3360" y="152388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914040" y="4648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914040" y="48002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6000" y="464832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914040" y="5105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914040" y="5257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9680" y="51055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C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219320" y="4572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60920" y="0"/>
            <a:ext cx="716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the transmission buffer 1, it contains the packets that must be sent to sta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a packet comes it is stored in the first available position starting from the rig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CSA selects this buffer for transmission, the packet at the head of the buff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nd the buffer is shifted on the right s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17524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840" y="2133720"/>
            <a:ext cx="4191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the TB Control of TB 1, it is u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the Reservation Algorithm ( RA)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ins at each position 1 or 0. At each 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running the CSA, the RA shif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 to the right, then compares the num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packet in TB and the number of 1 in T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is number is greater, it issued a reservation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urrent control slot for TB1, and put a 1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ft most position of the TB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80680" y="615780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is example k = 5 and N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2T19:14:08Z</dcterms:created>
  <dc:creator>Rachad ALAO</dc:creator>
  <dc:description/>
  <dc:language>en-US</dc:language>
  <cp:lastModifiedBy>Rachad ALAO</cp:lastModifiedBy>
  <dcterms:modified xsi:type="dcterms:W3CDTF">1998-05-12T23:37:21Z</dcterms:modified>
  <cp:revision>2</cp:revision>
  <dc:subject/>
  <dc:title>Aucun titre de diapositive</dc:title>
</cp:coreProperties>
</file>