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E200-ABDC-4F0F-80EB-A4A026AEC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FA38-424F-4B3F-A563-D241AD05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0C82-1720-4BFD-916C-64CA9C494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E201-5D99-4D81-9DEE-52F1CBE9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8448-B190-4BF3-92EC-26DDA3F8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142E-DCD9-4E73-96E6-470864C3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8E4A-9CAD-45C2-B996-A00C388F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8EC3-70B7-4CEF-B96E-FC767F07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5DB6-E7A9-4A80-9086-2D8321E1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D317-8EA4-4165-81DA-E166C6A4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9D15-CA45-4E38-87EC-61CE5CCD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DDE7-AD7E-48D2-97DF-A330E276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ADA8-BAFE-47DB-9B22-DF5E744576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ralao@venus.org" TargetMode="External"/><Relationship Id="rId3" Type="http://schemas.openxmlformats.org/officeDocument/2006/relationships/hyperlink" Target="mailto:ralao@venus.org" TargetMode="External"/><Relationship Id="rId4" Type="http://schemas.openxmlformats.org/officeDocument/2006/relationships/hyperlink" Target="mailto:ralao@venus.org" TargetMode="External"/><Relationship Id="rId5" Type="http://schemas.openxmlformats.org/officeDocument/2006/relationships/hyperlink" Target="mailto:ralao@venus.org" TargetMode="Externa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ralao@venus.org" TargetMode="External"/><Relationship Id="rId3" Type="http://schemas.openxmlformats.org/officeDocument/2006/relationships/hyperlink" Target="mailto:ralao@venus.org" TargetMode="External"/><Relationship Id="rId4" Type="http://schemas.openxmlformats.org/officeDocument/2006/relationships/hyperlink" Target="mailto:ralao@venus.org" TargetMode="External"/><Relationship Id="rId5" Type="http://schemas.openxmlformats.org/officeDocument/2006/relationships/hyperlink" Target="mailto:ralao@venus.org" TargetMode="Externa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ralao@venus.org" TargetMode="External"/><Relationship Id="rId3" Type="http://schemas.openxmlformats.org/officeDocument/2006/relationships/hyperlink" Target="mailto:ralao@venus.org" TargetMode="External"/><Relationship Id="rId4" Type="http://schemas.openxmlformats.org/officeDocument/2006/relationships/hyperlink" Target="mailto:ralao@venus.org" TargetMode="External"/><Relationship Id="rId5" Type="http://schemas.openxmlformats.org/officeDocument/2006/relationships/hyperlink" Target="mailto:ralao@venus.org" TargetMode="Externa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ralao@venus.org" TargetMode="External"/><Relationship Id="rId3" Type="http://schemas.openxmlformats.org/officeDocument/2006/relationships/hyperlink" Target="mailto:ralao@venus.org" TargetMode="External"/><Relationship Id="rId4" Type="http://schemas.openxmlformats.org/officeDocument/2006/relationships/hyperlink" Target="mailto:ralao@venus.org" TargetMode="External"/><Relationship Id="rId5" Type="http://schemas.openxmlformats.org/officeDocument/2006/relationships/hyperlink" Target="mailto:ralao@venus.org" TargetMode="Externa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ralao@venus.org" TargetMode="External"/><Relationship Id="rId3" Type="http://schemas.openxmlformats.org/officeDocument/2006/relationships/hyperlink" Target="mailto:ralao@venus.org" TargetMode="External"/><Relationship Id="rId4" Type="http://schemas.openxmlformats.org/officeDocument/2006/relationships/hyperlink" Target="mailto:ralao@venus.org" TargetMode="External"/><Relationship Id="rId5" Type="http://schemas.openxmlformats.org/officeDocument/2006/relationships/hyperlink" Target="mailto:ralao@venus.org" TargetMode="Externa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ralao@venus.org" TargetMode="External"/><Relationship Id="rId3" Type="http://schemas.openxmlformats.org/officeDocument/2006/relationships/hyperlink" Target="mailto:ralao@venus.org" TargetMode="External"/><Relationship Id="rId4" Type="http://schemas.openxmlformats.org/officeDocument/2006/relationships/hyperlink" Target="mailto:ralao@venus.org" TargetMode="External"/><Relationship Id="rId5" Type="http://schemas.openxmlformats.org/officeDocument/2006/relationships/hyperlink" Target="mailto:ralao@venus.org" TargetMode="Externa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ralao@venus.org" TargetMode="External"/><Relationship Id="rId3" Type="http://schemas.openxmlformats.org/officeDocument/2006/relationships/hyperlink" Target="mailto:ralao@venus.org" TargetMode="External"/><Relationship Id="rId4" Type="http://schemas.openxmlformats.org/officeDocument/2006/relationships/hyperlink" Target="mailto:ralao@venus.org" TargetMode="External"/><Relationship Id="rId5" Type="http://schemas.openxmlformats.org/officeDocument/2006/relationships/hyperlink" Target="mailto:ralao@venus.org" TargetMode="Externa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ralao@venus.org" TargetMode="External"/><Relationship Id="rId3" Type="http://schemas.openxmlformats.org/officeDocument/2006/relationships/hyperlink" Target="mailto:ralao@venus.org" TargetMode="External"/><Relationship Id="rId4" Type="http://schemas.openxmlformats.org/officeDocument/2006/relationships/hyperlink" Target="mailto:ralao@venus.org" TargetMode="External"/><Relationship Id="rId5" Type="http://schemas.openxmlformats.org/officeDocument/2006/relationships/hyperlink" Target="mailto:ralao@venus.org" TargetMode="Externa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ralao@venus.org" TargetMode="External"/><Relationship Id="rId3" Type="http://schemas.openxmlformats.org/officeDocument/2006/relationships/hyperlink" Target="mailto:ralao@venus.org" TargetMode="External"/><Relationship Id="rId4" Type="http://schemas.openxmlformats.org/officeDocument/2006/relationships/hyperlink" Target="mailto:ralao@venus.org" TargetMode="External"/><Relationship Id="rId5" Type="http://schemas.openxmlformats.org/officeDocument/2006/relationships/hyperlink" Target="mailto:ralao@venus.org" TargetMode="Externa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ralao@venus.org" TargetMode="External"/><Relationship Id="rId3" Type="http://schemas.openxmlformats.org/officeDocument/2006/relationships/hyperlink" Target="mailto:ralao@venus.org" TargetMode="External"/><Relationship Id="rId4" Type="http://schemas.openxmlformats.org/officeDocument/2006/relationships/hyperlink" Target="mailto:ralao@venus.org" TargetMode="External"/><Relationship Id="rId5" Type="http://schemas.openxmlformats.org/officeDocument/2006/relationships/hyperlink" Target="mailto:ralao@venus.org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ralao@venus.org" TargetMode="External"/><Relationship Id="rId3" Type="http://schemas.openxmlformats.org/officeDocument/2006/relationships/hyperlink" Target="mailto:ralao@venus.org" TargetMode="External"/><Relationship Id="rId4" Type="http://schemas.openxmlformats.org/officeDocument/2006/relationships/hyperlink" Target="mailto:ralao@venus.org" TargetMode="External"/><Relationship Id="rId5" Type="http://schemas.openxmlformats.org/officeDocument/2006/relationships/hyperlink" Target="mailto:ralao@venus.org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ralao@venus.org" TargetMode="External"/><Relationship Id="rId3" Type="http://schemas.openxmlformats.org/officeDocument/2006/relationships/hyperlink" Target="mailto:ralao@venus.org" TargetMode="External"/><Relationship Id="rId4" Type="http://schemas.openxmlformats.org/officeDocument/2006/relationships/hyperlink" Target="mailto:ralao@venus.org" TargetMode="External"/><Relationship Id="rId5" Type="http://schemas.openxmlformats.org/officeDocument/2006/relationships/hyperlink" Target="mailto:ralao@venus.org" TargetMode="Externa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ralao@venus.org" TargetMode="External"/><Relationship Id="rId3" Type="http://schemas.openxmlformats.org/officeDocument/2006/relationships/hyperlink" Target="mailto:ralao@venus.org" TargetMode="External"/><Relationship Id="rId4" Type="http://schemas.openxmlformats.org/officeDocument/2006/relationships/hyperlink" Target="mailto:ralao@venus.org" TargetMode="External"/><Relationship Id="rId5" Type="http://schemas.openxmlformats.org/officeDocument/2006/relationships/hyperlink" Target="mailto:ralao@venus.org" TargetMode="Externa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ralao@venus.org" TargetMode="External"/><Relationship Id="rId3" Type="http://schemas.openxmlformats.org/officeDocument/2006/relationships/hyperlink" Target="mailto:ralao@venus.org" TargetMode="External"/><Relationship Id="rId4" Type="http://schemas.openxmlformats.org/officeDocument/2006/relationships/hyperlink" Target="mailto:ralao@venus.org" TargetMode="External"/><Relationship Id="rId5" Type="http://schemas.openxmlformats.org/officeDocument/2006/relationships/hyperlink" Target="mailto:ralao@venus.org" TargetMode="Externa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ralao@venus.org" TargetMode="External"/><Relationship Id="rId3" Type="http://schemas.openxmlformats.org/officeDocument/2006/relationships/hyperlink" Target="mailto:ralao@venus.org" TargetMode="External"/><Relationship Id="rId4" Type="http://schemas.openxmlformats.org/officeDocument/2006/relationships/hyperlink" Target="mailto:ralao@venus.org" TargetMode="External"/><Relationship Id="rId5" Type="http://schemas.openxmlformats.org/officeDocument/2006/relationships/hyperlink" Target="mailto:ralao@venus.org" TargetMode="Externa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ralao@venus.org" TargetMode="External"/><Relationship Id="rId3" Type="http://schemas.openxmlformats.org/officeDocument/2006/relationships/hyperlink" Target="mailto:ralao@venus.org" TargetMode="External"/><Relationship Id="rId4" Type="http://schemas.openxmlformats.org/officeDocument/2006/relationships/hyperlink" Target="mailto:ralao@venus.org" TargetMode="External"/><Relationship Id="rId5" Type="http://schemas.openxmlformats.org/officeDocument/2006/relationships/hyperlink" Target="mailto:ralao@venus.org" TargetMode="Externa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ralao@venus.org" TargetMode="External"/><Relationship Id="rId3" Type="http://schemas.openxmlformats.org/officeDocument/2006/relationships/hyperlink" Target="mailto:ralao@venus.org" TargetMode="External"/><Relationship Id="rId4" Type="http://schemas.openxmlformats.org/officeDocument/2006/relationships/hyperlink" Target="mailto:ralao@venus.org" TargetMode="External"/><Relationship Id="rId5" Type="http://schemas.openxmlformats.org/officeDocument/2006/relationships/hyperlink" Target="mailto:ralao@venus.org" TargetMode="Externa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1143000"/>
            <a:ext cx="647676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_telecom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1322280" cy="55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582360" y="2895480"/>
            <a:ext cx="18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EEE 139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05440" y="3352680"/>
            <a:ext cx="27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high-speed computer I/O serial bu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8040" y="1371600"/>
            <a:ext cx="1355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SI / ELEC 9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31080" y="4836960"/>
            <a:ext cx="391608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By Rachad ALA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imes New Roman"/>
              </a:rPr>
              <a:t>Ecole Nationale Supérieure des Télécommunication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ralao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@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venus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.o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_telecom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322640" cy="555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670120" y="533520"/>
            <a:ext cx="41446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How does IEEE 1394 work ?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ample of Data Transfer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31880" y="6157800"/>
            <a:ext cx="446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EEE 1394, by Rachad ALA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ralao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@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venus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.or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210960" y="6153120"/>
            <a:ext cx="26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Symbol"/>
                <a:ea typeface="Symbol"/>
                <a:hlinkClick r:id="rId6" action="ppaction://hlinksldjump"/>
              </a:rPr>
              <a:t>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Symbol"/>
                <a:ea typeface="Symbol"/>
                <a:hlinkClick r:id="rId7" action="ppaction://hlinksldjump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Symbol"/>
                <a:ea typeface="Symbol"/>
                <a:hlinkClick r:id="rId8" action="ppaction://hlinksldjump"/>
              </a:rPr>
              <a:t>Back to Lecture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335268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30481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41520" y="304812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ycle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05320" y="3048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06400" y="304812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.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38480" y="3048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39920" y="304812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.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505320" y="28195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20600" y="255096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chronous G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648320" y="27432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32080" y="259092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action G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95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449568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38280" y="41911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41520" y="419112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ycle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05320" y="4191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06400" y="419112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.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4191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9920" y="419112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.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4191120"/>
            <a:ext cx="7632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876920" y="38098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60680" y="3581280"/>
            <a:ext cx="85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bi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76920" y="4191120"/>
            <a:ext cx="9903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79800" y="419112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 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4191120"/>
            <a:ext cx="7632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918040" y="38098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6640" y="3581280"/>
            <a:ext cx="12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X_DATA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62320" y="563868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53341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41520" y="533412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ycle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0532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06400" y="533412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.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39920" y="533412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.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00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5334120"/>
            <a:ext cx="7632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76920" y="5334120"/>
            <a:ext cx="9903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79800" y="533412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 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5334120"/>
            <a:ext cx="7632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19920" y="5334120"/>
            <a:ext cx="759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994360" y="49528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79200" y="472428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nowledge G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609552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00720" y="5334120"/>
            <a:ext cx="146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nowledge 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5880" y="3048120"/>
            <a:ext cx="92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p 1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70280" y="4191120"/>
            <a:ext cx="132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p 2, 3, 4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9560" y="5257800"/>
            <a:ext cx="92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p 5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54880" y="1905120"/>
            <a:ext cx="573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VD RAM want to perform a write data block transaction to the 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_telecom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322640" cy="5558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670120" y="533520"/>
            <a:ext cx="41446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How does IEEE 1394 work ?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ample of Data Transfer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31880" y="6157800"/>
            <a:ext cx="446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EEE 1394, by Rachad ALA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ralao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@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venus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.or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-210960" y="6153120"/>
            <a:ext cx="26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Symbol"/>
                <a:ea typeface="Symbol"/>
                <a:hlinkClick r:id="rId6" action="ppaction://hlinksldjump"/>
              </a:rPr>
              <a:t>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Symbol"/>
                <a:ea typeface="Symbol"/>
                <a:hlinkClick r:id="rId7" action="ppaction://hlinksldjump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Symbol"/>
                <a:ea typeface="Symbol"/>
                <a:hlinkClick r:id="rId8" action="ppaction://hlinksldjump"/>
              </a:rPr>
              <a:t>Back to Lecture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5880" y="3505320"/>
            <a:ext cx="92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p 1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70280" y="4648320"/>
            <a:ext cx="132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p 2, 3, 4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55600" y="1905120"/>
            <a:ext cx="516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mera sends MPEG2 data to the PC at a 6 Mbit/s fixed ra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38280" y="3733920"/>
            <a:ext cx="563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14600" y="342900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7840" y="342900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ycle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3580920" y="3200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88720" y="297180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chronous G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988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05320" y="3581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62320" y="487692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38280" y="457200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41520" y="457200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ycle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33920" y="4572000"/>
            <a:ext cx="7596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809880" y="41911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94000" y="3962520"/>
            <a:ext cx="85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bi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9880" y="4572000"/>
            <a:ext cx="1447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12400" y="4572000"/>
            <a:ext cx="139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. K Data 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57800" y="4572000"/>
            <a:ext cx="763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5334120" y="41911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93480" y="3962520"/>
            <a:ext cx="12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X_DATA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60280" y="2438280"/>
            <a:ext cx="73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or to all its isochronous transfers, the camera must allocates bandwidth and chann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_telecom" descr=""/>
          <p:cNvPicPr/>
          <p:nvPr/>
        </p:nvPicPr>
        <p:blipFill>
          <a:blip r:embed="rId1"/>
          <a:stretch/>
        </p:blipFill>
        <p:spPr>
          <a:xfrm>
            <a:off x="396720" y="228600"/>
            <a:ext cx="1322640" cy="5554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990440" y="380880"/>
            <a:ext cx="553896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rchitecture of a IEEE 1394 Controll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roject 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31880" y="6157800"/>
            <a:ext cx="446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EEE 1394, by Rachad ALA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ralao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@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venus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.or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-210960" y="6153120"/>
            <a:ext cx="26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Symbol"/>
                <a:ea typeface="Symbol"/>
                <a:hlinkClick r:id="rId6" action="ppaction://hlinksldjump"/>
              </a:rPr>
              <a:t>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Symbol"/>
                <a:ea typeface="Symbol"/>
                <a:hlinkClick r:id="rId7" action="ppaction://hlinksldjump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Symbol"/>
                <a:ea typeface="Symbol"/>
                <a:hlinkClick r:id="rId8" action="ppaction://hlinksldjump"/>
              </a:rPr>
              <a:t>Back to Lecture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9"/>
          <a:stretch/>
        </p:blipFill>
        <p:spPr>
          <a:xfrm>
            <a:off x="990720" y="1219320"/>
            <a:ext cx="7238880" cy="4876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_telecom" descr=""/>
          <p:cNvPicPr/>
          <p:nvPr/>
        </p:nvPicPr>
        <p:blipFill>
          <a:blip r:embed="rId1"/>
          <a:stretch/>
        </p:blipFill>
        <p:spPr>
          <a:xfrm>
            <a:off x="396720" y="304920"/>
            <a:ext cx="1322640" cy="5554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990440" y="457200"/>
            <a:ext cx="553896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rchitecture of a IEEE 1394 Controll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unctional Block 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31880" y="6157800"/>
            <a:ext cx="446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EEE 1394, by Rachad ALA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ralao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@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venus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.or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-210960" y="6153120"/>
            <a:ext cx="26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Symbol"/>
                <a:ea typeface="Symbol"/>
                <a:hlinkClick r:id="rId6" action="ppaction://hlinksldjump"/>
              </a:rPr>
              <a:t>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Symbol"/>
                <a:ea typeface="Symbol"/>
                <a:hlinkClick r:id="rId7" action="ppaction://hlinksldjump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Symbol"/>
                <a:ea typeface="Symbol"/>
                <a:hlinkClick r:id="rId8" action="ppaction://hlinksldjump"/>
              </a:rPr>
              <a:t>Back to Lecture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95280" y="1676520"/>
            <a:ext cx="8384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8080" y="2514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0040" y="24382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8080" y="3016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8080" y="3244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0040" y="294012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P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8080" y="354960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377820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0760" y="34732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52680" y="1676520"/>
            <a:ext cx="8384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1676520"/>
            <a:ext cx="8380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0120" y="1676520"/>
            <a:ext cx="8380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993600" y="2970720"/>
            <a:ext cx="133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hy Lay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080520" y="2940840"/>
            <a:ext cx="143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nk Lay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4926960" y="3152520"/>
            <a:ext cx="200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FO Control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6200000">
            <a:off x="6437880" y="3087720"/>
            <a:ext cx="309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l Host Bus Adapter 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33720" y="18288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33720" y="19810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133720" y="2362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133720" y="25146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33720" y="2895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1337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320040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133720" y="342900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337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4495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33720" y="4648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362320" y="1600200"/>
            <a:ext cx="633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130120" y="1752480"/>
            <a:ext cx="121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ransmit_Gran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439360" y="2133720"/>
            <a:ext cx="46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Ho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84200" y="2286000"/>
            <a:ext cx="923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363400" y="2666880"/>
            <a:ext cx="694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15320" y="2819520"/>
            <a:ext cx="446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/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362320" y="2971800"/>
            <a:ext cx="726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dd[7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84200" y="3200400"/>
            <a:ext cx="1086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Data[7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4560" y="4114800"/>
            <a:ext cx="101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k ( 50 Mhz 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63400" y="4267080"/>
            <a:ext cx="68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7800" y="4419720"/>
            <a:ext cx="950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ower_Dow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7920" y="4572000"/>
            <a:ext cx="532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/Res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133720" y="3733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64120" y="3505320"/>
            <a:ext cx="64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hy_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133720" y="396252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08960" y="3733920"/>
            <a:ext cx="103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hy_Data[7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324480" y="28954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324480" y="30481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324480" y="320040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342900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4160" y="2666880"/>
            <a:ext cx="694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Host_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706440" y="2819520"/>
            <a:ext cx="446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/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476400" y="2971800"/>
            <a:ext cx="1061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Host_Add[7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5320" y="3200400"/>
            <a:ext cx="115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Host_Data[31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37339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555240" y="3505320"/>
            <a:ext cx="73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IFO_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324480" y="396252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323760" y="3733920"/>
            <a:ext cx="119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IFO_Data[31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24480" y="4572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75680" y="4343400"/>
            <a:ext cx="101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k ( 33 Mhz 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24480" y="4800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05360" y="4572000"/>
            <a:ext cx="532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/Res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24480" y="18288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07160" y="1600200"/>
            <a:ext cx="41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1120" y="5105520"/>
            <a:ext cx="4920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* Local Bus Adapter Interface is Bus Dependent! No generic interface can be give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91120" y="4343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41960" y="4114800"/>
            <a:ext cx="101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k ( 50 Mhz 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91120" y="4572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71640" y="4343400"/>
            <a:ext cx="532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/Res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91120" y="2209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191120" y="2438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06960" y="268128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06960" y="290988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421880" y="1981080"/>
            <a:ext cx="73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IFO_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20080" y="2209680"/>
            <a:ext cx="81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IFO_R/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59240" y="2452680"/>
            <a:ext cx="1099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IFO_Add[7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58520" y="2681280"/>
            <a:ext cx="119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IFO_Data[31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191120" y="3276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420800" y="3048120"/>
            <a:ext cx="694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91120" y="39625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265640" y="3733920"/>
            <a:ext cx="115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Data[31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266720" y="3505320"/>
            <a:ext cx="1061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Add[2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191120" y="37339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91120" y="35053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19720" y="3276720"/>
            <a:ext cx="781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R/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11640" y="5396040"/>
            <a:ext cx="740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action layer and part of the bus management will be software components ( driver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_telecom" descr=""/>
          <p:cNvPicPr/>
          <p:nvPr/>
        </p:nvPicPr>
        <p:blipFill>
          <a:blip r:embed="rId1"/>
          <a:stretch/>
        </p:blipFill>
        <p:spPr>
          <a:xfrm>
            <a:off x="396720" y="304920"/>
            <a:ext cx="1322640" cy="5554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990440" y="457200"/>
            <a:ext cx="553896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rchitecture of a IEEE 1394 Controll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lock Level Detailed Architecture - PH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31880" y="6157800"/>
            <a:ext cx="446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EEE 1394, by Rachad ALA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ralao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@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venus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.or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-210960" y="6153120"/>
            <a:ext cx="26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Symbol"/>
                <a:ea typeface="Symbol"/>
                <a:hlinkClick r:id="rId6" action="ppaction://hlinksldjump"/>
              </a:rPr>
              <a:t>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Symbol"/>
                <a:ea typeface="Symbol"/>
                <a:hlinkClick r:id="rId7" action="ppaction://hlinksldjump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Symbol"/>
                <a:ea typeface="Symbol"/>
                <a:hlinkClick r:id="rId8" action="ppaction://hlinksldjump"/>
              </a:rPr>
              <a:t>Back to Lecture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666880" y="2057400"/>
            <a:ext cx="30481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14800" y="2971800"/>
            <a:ext cx="1371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27360" y="2957400"/>
            <a:ext cx="9907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14800" y="4495680"/>
            <a:ext cx="1371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114800" y="2133720"/>
            <a:ext cx="1371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18040" y="3200400"/>
            <a:ext cx="1358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y St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chine 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nal Re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177800" y="4557600"/>
            <a:ext cx="13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 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14800" y="4495680"/>
            <a:ext cx="1371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16960" y="2133720"/>
            <a:ext cx="138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m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 En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715120" y="3095640"/>
            <a:ext cx="96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60880" y="48625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3260880" y="43290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60880" y="242424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60880" y="242424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00600" y="4343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00600" y="28195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15000" y="2209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15000" y="2362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15000" y="2743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150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15000" y="3276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15000" y="3429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715000" y="35812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15000" y="38098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715000" y="47242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15000" y="4876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15000" y="5029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15000" y="5181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943600" y="1981080"/>
            <a:ext cx="633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711400" y="2133720"/>
            <a:ext cx="121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ransmit_Gran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21000" y="2514600"/>
            <a:ext cx="46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Ho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865480" y="2666880"/>
            <a:ext cx="923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944680" y="3048120"/>
            <a:ext cx="694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96600" y="3200400"/>
            <a:ext cx="446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/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943960" y="3352680"/>
            <a:ext cx="726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dd[7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865840" y="3581280"/>
            <a:ext cx="1086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Data[7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865840" y="4495680"/>
            <a:ext cx="101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k ( 50 Mhz 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44680" y="4648320"/>
            <a:ext cx="68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869080" y="4800600"/>
            <a:ext cx="950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ower_Dow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19560" y="4952880"/>
            <a:ext cx="532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/Res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5000" y="4114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945400" y="3886200"/>
            <a:ext cx="64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hy_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15000" y="43434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790240" y="4114800"/>
            <a:ext cx="103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hy_Data[7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09680" y="300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09680" y="3232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1640" y="292752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0968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0968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1640" y="342900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P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09680" y="40384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09680" y="42670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02360" y="39625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_telecom" descr=""/>
          <p:cNvPicPr/>
          <p:nvPr/>
        </p:nvPicPr>
        <p:blipFill>
          <a:blip r:embed="rId1"/>
          <a:stretch/>
        </p:blipFill>
        <p:spPr>
          <a:xfrm>
            <a:off x="396720" y="304920"/>
            <a:ext cx="1322640" cy="55548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990440" y="457200"/>
            <a:ext cx="553896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rchitecture of a IEEE 1394 Controll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lock Level Detailed Architecture - LIN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331880" y="6157800"/>
            <a:ext cx="446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EEE 1394, by Rachad ALA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ralao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@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venus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.or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-210960" y="6153120"/>
            <a:ext cx="26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Symbol"/>
                <a:ea typeface="Symbol"/>
                <a:hlinkClick r:id="rId6" action="ppaction://hlinksldjump"/>
              </a:rPr>
              <a:t>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Symbol"/>
                <a:ea typeface="Symbol"/>
                <a:hlinkClick r:id="rId7" action="ppaction://hlinksldjump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Symbol"/>
                <a:ea typeface="Symbol"/>
                <a:hlinkClick r:id="rId8" action="ppaction://hlinksldjump"/>
              </a:rPr>
              <a:t>Back to Lecture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54120" y="2057400"/>
            <a:ext cx="381024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235160" y="2300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35160" y="2452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35160" y="28335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235160" y="2986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235160" y="33670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35160" y="35193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235160" y="367200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235160" y="390060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35160" y="4815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35160" y="4967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35160" y="51195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235160" y="5272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63760" y="2071800"/>
            <a:ext cx="633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231560" y="2224080"/>
            <a:ext cx="121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ransmit_Gran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40800" y="2604960"/>
            <a:ext cx="46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Ho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385640" y="2757600"/>
            <a:ext cx="923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64840" y="3138480"/>
            <a:ext cx="694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616760" y="3290760"/>
            <a:ext cx="446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/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463760" y="3443400"/>
            <a:ext cx="726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dd[7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386000" y="3672000"/>
            <a:ext cx="1086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Data[7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386000" y="4586400"/>
            <a:ext cx="101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k ( 50 Mhz 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464840" y="4738680"/>
            <a:ext cx="68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389240" y="4890960"/>
            <a:ext cx="950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ower_Dow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39360" y="5043600"/>
            <a:ext cx="532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/Res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35160" y="42051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465560" y="3976560"/>
            <a:ext cx="64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hy_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35160" y="443376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370880" y="4191120"/>
            <a:ext cx="103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hy_Data[7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485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399360" y="4572000"/>
            <a:ext cx="101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k ( 50 Mhz 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248520" y="5029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629040" y="4800600"/>
            <a:ext cx="532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/Res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248520" y="2666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248520" y="2895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264360" y="313848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264360" y="336708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79280" y="2438280"/>
            <a:ext cx="73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IFO_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477480" y="2666880"/>
            <a:ext cx="81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IFO_R/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416640" y="2909880"/>
            <a:ext cx="1099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IFO_Add[7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415920" y="3138480"/>
            <a:ext cx="119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IFO_Data[31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248520" y="3733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478200" y="3505320"/>
            <a:ext cx="694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248520" y="44197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323040" y="4191120"/>
            <a:ext cx="115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Data[31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324120" y="3962520"/>
            <a:ext cx="1061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Add[2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248520" y="41911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606760" y="2300400"/>
            <a:ext cx="45720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292560" y="2147760"/>
            <a:ext cx="121896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16200000">
            <a:off x="2172600" y="357588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y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96520" y="237636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mi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4495680"/>
            <a:ext cx="121896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431880" y="472428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24280" y="213372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802040" y="213372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708440" y="493884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86200" y="49388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24280" y="2590920"/>
            <a:ext cx="14479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726440" y="2590920"/>
            <a:ext cx="153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soch.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4280" y="4495680"/>
            <a:ext cx="14479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11320" y="4481640"/>
            <a:ext cx="14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soch. Mon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292560" y="3214800"/>
            <a:ext cx="281916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432960" y="3429000"/>
            <a:ext cx="232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nk State Machine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032280" y="49388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048120" y="3733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048120" y="2590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95680" y="2362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479840" y="50911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5484960" y="426708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3886200" y="426708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3884760" y="29718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5484960" y="29718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248520" y="3962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477120" y="3733920"/>
            <a:ext cx="781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R/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_telecom" descr=""/>
          <p:cNvPicPr/>
          <p:nvPr/>
        </p:nvPicPr>
        <p:blipFill>
          <a:blip r:embed="rId1"/>
          <a:stretch/>
        </p:blipFill>
        <p:spPr>
          <a:xfrm>
            <a:off x="396720" y="304920"/>
            <a:ext cx="1322640" cy="5554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1990440" y="457200"/>
            <a:ext cx="553896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rchitecture of a IEEE 1394 Controll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lock Level Detailed Architecture - FIF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331880" y="6157800"/>
            <a:ext cx="446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EEE 1394, by Rachad ALA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ralao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@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venus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.or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-210960" y="6153120"/>
            <a:ext cx="26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Symbol"/>
                <a:ea typeface="Symbol"/>
                <a:hlinkClick r:id="rId6" action="ppaction://hlinksldjump"/>
              </a:rPr>
              <a:t>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Symbol"/>
                <a:ea typeface="Symbol"/>
                <a:hlinkClick r:id="rId7" action="ppaction://hlinksldjump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Symbol"/>
                <a:ea typeface="Symbol"/>
                <a:hlinkClick r:id="rId8" action="ppaction://hlinksldjump"/>
              </a:rPr>
              <a:t>Back to Lecture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905120" y="1905120"/>
            <a:ext cx="525780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19920" y="3886200"/>
            <a:ext cx="9144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09880" y="2133720"/>
            <a:ext cx="16002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057400" y="3886200"/>
            <a:ext cx="99072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39720" y="4205160"/>
            <a:ext cx="101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ap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fa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13480" y="2362320"/>
            <a:ext cx="152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F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troll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Internal Re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984680" y="4191120"/>
            <a:ext cx="96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276720" y="3657600"/>
            <a:ext cx="2514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52680" y="37339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neral Receive FI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76720" y="4343400"/>
            <a:ext cx="2514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352680" y="44197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synch. Transmit FI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276720" y="5029200"/>
            <a:ext cx="2514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352680" y="51055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soch. Transmit FI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48120" y="4648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48120" y="52578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48120" y="39625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791320" y="4648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791320" y="52578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791320" y="39625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2514600" y="27432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514600" y="274320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477120" y="274320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5410080" y="274320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572000" y="35053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572000" y="41911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0" y="48769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162920" y="35053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162920" y="3657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162920" y="380988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162920" y="403848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392600" y="3276720"/>
            <a:ext cx="694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Host_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544520" y="3429000"/>
            <a:ext cx="446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/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14840" y="3581280"/>
            <a:ext cx="1061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Host_Add[7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313400" y="3809880"/>
            <a:ext cx="115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Host_Data[31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62920" y="4343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393680" y="4114800"/>
            <a:ext cx="73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IFO_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162920" y="45720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161840" y="4343400"/>
            <a:ext cx="119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IFO_Data[31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62920" y="5181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313760" y="4952880"/>
            <a:ext cx="101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k ( 33 Mhz 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162920" y="5410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543440" y="5181480"/>
            <a:ext cx="532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/Res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62920" y="2438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545600" y="2209680"/>
            <a:ext cx="41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09480" y="4800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60680" y="4572000"/>
            <a:ext cx="101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k ( 50 Mhz 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9480" y="50292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990360" y="4800600"/>
            <a:ext cx="532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/Res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09480" y="26668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09480" y="28954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25320" y="31384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25320" y="33670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40240" y="2438280"/>
            <a:ext cx="73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IFO_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38800" y="2666880"/>
            <a:ext cx="81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IFO_R/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77960" y="2909880"/>
            <a:ext cx="1099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IFO_Add[7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76880" y="3138480"/>
            <a:ext cx="119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IFO_Data[31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09480" y="37339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39160" y="3505320"/>
            <a:ext cx="694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1972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84000" y="4191120"/>
            <a:ext cx="115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Data[31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5440" y="3962520"/>
            <a:ext cx="1061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Add[2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9480" y="419112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9480" y="39625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38080" y="3733920"/>
            <a:ext cx="781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R/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_telecom" descr=""/>
          <p:cNvPicPr/>
          <p:nvPr/>
        </p:nvPicPr>
        <p:blipFill>
          <a:blip r:embed="rId1"/>
          <a:stretch/>
        </p:blipFill>
        <p:spPr>
          <a:xfrm>
            <a:off x="396720" y="304920"/>
            <a:ext cx="1322640" cy="55548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1990440" y="457200"/>
            <a:ext cx="553896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rchitecture of a IEEE 1394 Controll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ransaction Layer, dri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331880" y="6157800"/>
            <a:ext cx="446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EEE 1394, by Rachad ALA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ralao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@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venus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.or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-210960" y="6153120"/>
            <a:ext cx="26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Symbol"/>
                <a:ea typeface="Symbol"/>
                <a:hlinkClick r:id="rId6" action="ppaction://hlinksldjump"/>
              </a:rPr>
              <a:t>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Symbol"/>
                <a:ea typeface="Symbol"/>
                <a:hlinkClick r:id="rId7" action="ppaction://hlinksldjump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Symbol"/>
                <a:ea typeface="Symbol"/>
                <a:hlinkClick r:id="rId8" action="ppaction://hlinksldjump"/>
              </a:rPr>
              <a:t>Back to Lecture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36760" y="1828800"/>
            <a:ext cx="807336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Transaction layer and part of the bus management func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be software componen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action layer must implement Read, Write and Lock transac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river must offer ability to handle isochronous transf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river must be IRQ driven and able to initiate DMA transfe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river model will depend on the target application 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_telecom" descr=""/>
          <p:cNvPicPr/>
          <p:nvPr/>
        </p:nvPicPr>
        <p:blipFill>
          <a:blip r:embed="rId1"/>
          <a:stretch/>
        </p:blipFill>
        <p:spPr>
          <a:xfrm>
            <a:off x="396720" y="304920"/>
            <a:ext cx="1322640" cy="55548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3910680" y="457200"/>
            <a:ext cx="1697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331880" y="6157800"/>
            <a:ext cx="446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EEE 1394, by Rachad ALA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 ralao@venus.org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3160" y="6153120"/>
            <a:ext cx="210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ck to Lecture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06000" y="1295280"/>
            <a:ext cx="869364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ives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ive a synthesis of the IEEE 1394 Bus standa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ive a Hardware Specifications of an IEEE 1394 Sol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itute a good starting for the development of an IEEE 1394 Sol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ched 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+ Gave me a good understanding of the IEEE 1394 Protoc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wed me the difficulty to build specifications from a complex standa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No multicast for asynchronous packets! Surprising for such a complicat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ndar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438280" y="2895480"/>
            <a:ext cx="12956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1680" y="3200400"/>
            <a:ext cx="552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76920" y="2286000"/>
            <a:ext cx="121896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55400" y="2362320"/>
            <a:ext cx="114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Vide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ame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76920" y="3657600"/>
            <a:ext cx="1143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5400" y="3657600"/>
            <a:ext cx="94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VD 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_telecom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322640" cy="555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331880" y="6157800"/>
            <a:ext cx="446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EEE 1394, by Rachad ALA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ralao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@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venus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.or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2000" y="533520"/>
            <a:ext cx="7078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What’s the best way to interconnect these devices 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362320" y="2133720"/>
            <a:ext cx="12952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45360" y="2438280"/>
            <a:ext cx="552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1523880"/>
            <a:ext cx="121896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26800" y="1600200"/>
            <a:ext cx="114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Vide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ame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2895480"/>
            <a:ext cx="1143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26800" y="2895480"/>
            <a:ext cx="94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VD 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_telecom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322640" cy="555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331880" y="6157800"/>
            <a:ext cx="446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EEE 1394, by Rachad ALA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ralao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@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venus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.or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71080" y="496800"/>
            <a:ext cx="7078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What’s the best way to interconnect these devices 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4343400"/>
            <a:ext cx="688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y not with USB?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o slow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y not with a SCSI bus?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st enough, but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at about an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IEEE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139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us?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You’ve got it!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73040" y="1523880"/>
            <a:ext cx="296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sochronous Traffi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ndwidth Requirement : 6Mbit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72680" y="2895480"/>
            <a:ext cx="306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oradic traffi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ndwidth Requirement : 16Mbit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_telecom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322640" cy="555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670480" y="533520"/>
            <a:ext cx="3483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EEE 1394 Lecture Pla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31880" y="6157800"/>
            <a:ext cx="446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EEE 1394, by Rachad ALA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ralao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@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venus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.or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2880" y="1270080"/>
            <a:ext cx="5330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I. How does IEEE 1394 work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Topolo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 Type of Trans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Protocol’s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Example of Data Transf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I. Architecture of a IEEE 1394 Controll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ject 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al Block 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lock Level Detailed Archite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action Layer, driv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II. Conclus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_telecom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322640" cy="555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670120" y="533520"/>
            <a:ext cx="41446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How does IEEE 1394 work ?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1880" y="6157800"/>
            <a:ext cx="446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EEE 1394, by Rachad ALA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ralao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@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venus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.or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-210960" y="6153120"/>
            <a:ext cx="26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Symbol"/>
                <a:ea typeface="Symbol"/>
                <a:hlinkClick r:id="rId6" action="ppaction://hlinksldjump"/>
              </a:rPr>
              <a:t>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Symbol"/>
                <a:ea typeface="Symbol"/>
                <a:hlinkClick r:id="rId7" action="ppaction://hlinksldjump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Symbol"/>
                <a:ea typeface="Symbol"/>
                <a:hlinkClick r:id="rId8" action="ppaction://hlinksldjump"/>
              </a:rPr>
              <a:t>Back to Lecture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9"/>
          <a:stretch/>
        </p:blipFill>
        <p:spPr>
          <a:xfrm>
            <a:off x="1600200" y="1828800"/>
            <a:ext cx="6066000" cy="2319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740240" y="4255920"/>
            <a:ext cx="4767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igh Spe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t plug and pl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ochronous cap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ory-bus-like” logical archite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_telecom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322640" cy="555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670120" y="533520"/>
            <a:ext cx="41446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How does IEEE 1394 work ?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opolo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31880" y="6157800"/>
            <a:ext cx="446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EEE 1394, by Rachad ALA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ralao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@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venus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.or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10960" y="6153120"/>
            <a:ext cx="26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Symbol"/>
                <a:ea typeface="Symbol"/>
                <a:hlinkClick r:id="rId6" action="ppaction://hlinksldjump"/>
              </a:rPr>
              <a:t>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Symbol"/>
                <a:ea typeface="Symbol"/>
                <a:hlinkClick r:id="rId7" action="ppaction://hlinksldjump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Symbol"/>
                <a:ea typeface="Symbol"/>
                <a:hlinkClick r:id="rId8" action="ppaction://hlinksldjump"/>
              </a:rPr>
              <a:t>Back to Lecture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9"/>
          <a:stretch/>
        </p:blipFill>
        <p:spPr>
          <a:xfrm>
            <a:off x="1371600" y="1676520"/>
            <a:ext cx="6781680" cy="3473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78360" y="5334120"/>
            <a:ext cx="85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hysical topology is a non-cyclic network but Logical Topology is a bu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de_ID[ 15 .. 0] = Bus_ID[15 .. 6] || Physical_ID[ 5 .. 0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_telecom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322640" cy="555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670120" y="533520"/>
            <a:ext cx="41446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How does IEEE 1394 work ?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ype of Trans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31880" y="6157800"/>
            <a:ext cx="446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EEE 1394, by Rachad ALA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ralao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@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venus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.or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210960" y="6153120"/>
            <a:ext cx="26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Symbol"/>
                <a:ea typeface="Symbol"/>
                <a:hlinkClick r:id="rId6" action="ppaction://hlinksldjump"/>
              </a:rPr>
              <a:t>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Symbol"/>
                <a:ea typeface="Symbol"/>
                <a:hlinkClick r:id="rId7" action="ppaction://hlinksldjump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Symbol"/>
                <a:ea typeface="Symbol"/>
                <a:hlinkClick r:id="rId8" action="ppaction://hlinksldjump"/>
              </a:rPr>
              <a:t>Back to Lecture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3280" y="1905120"/>
            <a:ext cx="4702320" cy="143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fferent type of subaction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ynchronous sub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ynchronous broadcast sub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ochronous sub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76320" y="4191120"/>
            <a:ext cx="9067680" cy="1446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417280" y="1905120"/>
            <a:ext cx="3493800" cy="143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fferent part of a subaction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bitration sequ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pack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knowledg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48440" y="3722760"/>
            <a:ext cx="391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ical structure of a data pack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_telecom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322640" cy="555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670120" y="533520"/>
            <a:ext cx="41446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How does IEEE 1394 work ?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rotocol’s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31880" y="6157800"/>
            <a:ext cx="446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EEE 1394, by Rachad ALA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ralao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@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venus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.or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210960" y="6153120"/>
            <a:ext cx="26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Symbol"/>
                <a:ea typeface="Symbol"/>
                <a:hlinkClick r:id="rId6" action="ppaction://hlinksldjump"/>
              </a:rPr>
              <a:t>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Symbol"/>
                <a:ea typeface="Symbol"/>
                <a:hlinkClick r:id="rId7" action="ppaction://hlinksldjump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Symbol"/>
                <a:ea typeface="Symbol"/>
                <a:hlinkClick r:id="rId8" action="ppaction://hlinksldjump"/>
              </a:rPr>
              <a:t>Back to Lecture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9"/>
          <a:stretch/>
        </p:blipFill>
        <p:spPr>
          <a:xfrm>
            <a:off x="0" y="1523880"/>
            <a:ext cx="5721480" cy="4483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491080" y="2666880"/>
            <a:ext cx="349848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managers needed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 ( Arbiter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CLE_M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OCHRONOUS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_telecom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322640" cy="555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670120" y="533520"/>
            <a:ext cx="41446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How does IEEE 1394 work ?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ample of Data Transfer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31880" y="6157800"/>
            <a:ext cx="446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EEE 1394, by Rachad ALA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ralao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@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venus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.or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210960" y="6153120"/>
            <a:ext cx="26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Symbol"/>
                <a:ea typeface="Symbol"/>
                <a:hlinkClick r:id="rId6" action="ppaction://hlinksldjump"/>
              </a:rPr>
              <a:t>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Symbol"/>
                <a:ea typeface="Symbol"/>
                <a:hlinkClick r:id="rId7" action="ppaction://hlinksldjump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Symbol"/>
                <a:ea typeface="Symbol"/>
                <a:hlinkClick r:id="rId8" action="ppaction://hlinksldjump"/>
              </a:rPr>
              <a:t>Back to Lecture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819520"/>
            <a:ext cx="129564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4480" y="3124080"/>
            <a:ext cx="552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4680" y="3962520"/>
            <a:ext cx="194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sochronous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ycle M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_ID =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209680"/>
            <a:ext cx="121896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98200" y="2286000"/>
            <a:ext cx="114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Vide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ame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6800" y="281952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_ID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19720" y="3581280"/>
            <a:ext cx="1143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98200" y="3581280"/>
            <a:ext cx="94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VD 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40480" y="411480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_ID =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2971800"/>
            <a:ext cx="759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3505320"/>
            <a:ext cx="759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43400" y="2590920"/>
            <a:ext cx="763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962520"/>
            <a:ext cx="763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1" idx="3"/>
            <a:endCxn id="113" idx="1"/>
          </p:cNvCxnSpPr>
          <p:nvPr/>
        </p:nvCxnSpPr>
        <p:spPr>
          <a:xfrm flipV="1">
            <a:off x="3352680" y="2666160"/>
            <a:ext cx="99144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112" idx="3"/>
            <a:endCxn id="114" idx="1"/>
          </p:cNvCxnSpPr>
          <p:nvPr/>
        </p:nvCxnSpPr>
        <p:spPr>
          <a:xfrm>
            <a:off x="3352680" y="3581280"/>
            <a:ext cx="9914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3T18:14:17Z</dcterms:created>
  <dc:creator>Rachad ALAO</dc:creator>
  <dc:description/>
  <dc:language>en-US</dc:language>
  <cp:lastModifiedBy>Rachad ALAO</cp:lastModifiedBy>
  <dcterms:modified xsi:type="dcterms:W3CDTF">1998-07-05T20:43:50Z</dcterms:modified>
  <cp:revision>11</cp:revision>
  <dc:subject/>
  <dc:title>Aucun titre de diapositive</dc:title>
</cp:coreProperties>
</file>