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BE1-063D-45D9-9267-46308D42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2B8-8179-4597-9432-9DA8AE5C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C72-D413-4F69-85A5-3D61060D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7BC-D153-4EC9-AED0-834C10D3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1D0-A6BC-4ABB-A531-FF789AB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956-3B90-44F0-9B90-47C85EA7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7FD-7316-40C0-AADB-9D44590A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889-2A74-4498-A07E-433EADC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F0D-F5BC-48A8-9CDB-EAD05B4D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6EB-AADB-4D9F-9ED9-206380C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5E8-3F41-4EF1-B845-251A506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4D7-5BFB-4CDD-8F4D-6014C204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95D-F049-4C62-B0FB-D7A3235CD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143000"/>
            <a:ext cx="647676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_telecom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322280" cy="55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2360" y="289548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13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5440" y="3352680"/>
            <a:ext cx="27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high-speed computer I/O serial b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8040" y="1371600"/>
            <a:ext cx="135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SI / ELEC 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1080" y="4836960"/>
            <a:ext cx="391608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y Rachad ALA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imes New Roman"/>
              </a:rPr>
              <a:t>Ecole Nationale Supérieure des Télécommunica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lao@email.enst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524600" y="76212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hy Layer State Machine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1828800"/>
            <a:ext cx="2286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61560" y="3200400"/>
            <a:ext cx="18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State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Interna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34290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3657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4572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50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182880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1400" y="198108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1000" y="23623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65480" y="251460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44680" y="289548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6600" y="304812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43960" y="320040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5840" y="342900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5840" y="43434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44680" y="449568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69080" y="464832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19560" y="4800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5400" y="373392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4191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4280" y="396252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2133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120" y="19810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_Data[1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95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09680" y="228600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_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2743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259092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_Data[1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10040" y="2895480"/>
            <a:ext cx="60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_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52120" y="32767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/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98040" y="36576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_Status[3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3809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98400" y="403848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_Status[3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548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77240" y="76212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Link Layer Phy Interface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1828800"/>
            <a:ext cx="129528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66480" y="35812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432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4419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43200" y="4800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4320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514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43200" y="2743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4320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4320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43200" y="5486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403848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39600" y="419112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0" y="44197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3680" y="457200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2880" y="198108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71800" y="21337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71440" y="228600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0000" y="251460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70360" y="48006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972880" y="495288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97280" y="510552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7760" y="52578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4320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3600" y="289548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33526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42480" y="312408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57800" y="22096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2680" y="1981080"/>
            <a:ext cx="93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2362320"/>
            <a:ext cx="1371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29800" y="2133720"/>
            <a:ext cx="132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26668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09000" y="24382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819520"/>
            <a:ext cx="1371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08280" y="2590920"/>
            <a:ext cx="122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30481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09360" y="2819520"/>
            <a:ext cx="120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ou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57800" y="3200400"/>
            <a:ext cx="1371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07560" y="2971800"/>
            <a:ext cx="126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out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57800" y="34290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09720" y="3200400"/>
            <a:ext cx="113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in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7800" y="3581280"/>
            <a:ext cx="1371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07920" y="3352680"/>
            <a:ext cx="119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in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57800" y="38098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10440" y="3581280"/>
            <a:ext cx="88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3962520"/>
            <a:ext cx="13716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07920" y="3733920"/>
            <a:ext cx="127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19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68600" y="419112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4648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33640" y="44197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57800" y="4800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4600" y="457200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6252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2578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62640" y="48006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62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480" y="499752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6252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5486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62360" y="52578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48600" y="514980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363040" y="76212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Link Transmitter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2514600"/>
            <a:ext cx="17524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42440" y="35053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289548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79640" y="2743200"/>
            <a:ext cx="93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95480" y="32767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95880" y="3124080"/>
            <a:ext cx="132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86400" y="27432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49120" y="259092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pack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86400" y="2971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1640" y="2819520"/>
            <a:ext cx="116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peed_code[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1687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0560" y="304812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ame_pos[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86400" y="335268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2360" y="3200400"/>
            <a:ext cx="82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86400" y="3549600"/>
            <a:ext cx="10666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2000" y="3397320"/>
            <a:ext cx="110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ext_data_qu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86400" y="37339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553080" y="3581280"/>
            <a:ext cx="101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data_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86400" y="39625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3080" y="3778200"/>
            <a:ext cx="100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gene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415908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552720" y="4006800"/>
            <a:ext cx="113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86400" y="438768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51280" y="423540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pattern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5720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51280" y="4419720"/>
            <a:ext cx="130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pattern_read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809880" y="2895480"/>
            <a:ext cx="1752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40280" y="3124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C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30481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2895480"/>
            <a:ext cx="94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data_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32767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52480" y="3124080"/>
            <a:ext cx="100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gene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3200" y="35053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99840" y="3352680"/>
            <a:ext cx="113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62720" y="30481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7600" y="289548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pattern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562720" y="327672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7600" y="3124080"/>
            <a:ext cx="130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pattern_read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5560" y="76212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CRC Module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363040" y="76212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Link Receiver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2514600"/>
            <a:ext cx="17524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7680" y="38098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95480" y="289548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81440" y="2743200"/>
            <a:ext cx="88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95480" y="32767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97680" y="3124080"/>
            <a:ext cx="127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86400" y="27432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3080" y="259092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86400" y="320040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51640" y="3048120"/>
            <a:ext cx="116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_quad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36576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86400" y="38862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53800" y="3733920"/>
            <a:ext cx="120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check_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41148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3962520"/>
            <a:ext cx="92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cor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86400" y="480060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552720" y="4648320"/>
            <a:ext cx="113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86400" y="502920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1280" y="487692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pattern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86400" y="52578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551280" y="5105520"/>
            <a:ext cx="130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pattern_read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29718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50920" y="2819520"/>
            <a:ext cx="120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_quad_stro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342900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50200" y="3276720"/>
            <a:ext cx="125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sical_ID[15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55240" y="3505320"/>
            <a:ext cx="88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ck_CR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43434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553080" y="4191120"/>
            <a:ext cx="101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data_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45720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553080" y="4419720"/>
            <a:ext cx="100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gene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059560" y="762120"/>
            <a:ext cx="54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Isochronous Manager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2666880"/>
            <a:ext cx="17524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64680" y="2971800"/>
            <a:ext cx="13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roni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95480" y="30481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7400" y="289548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0Mhz Cl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86400" y="28954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50200" y="2743200"/>
            <a:ext cx="95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ycle_mas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86400" y="335268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548400" y="3200400"/>
            <a:ext cx="154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ycle_start_quad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86400" y="3809880"/>
            <a:ext cx="10666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86400" y="358128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47680" y="3429000"/>
            <a:ext cx="159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ycle_timer_quad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86400" y="31240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800" y="2971800"/>
            <a:ext cx="58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554160" y="365760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058480" y="762120"/>
            <a:ext cx="54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Isochronious Monitor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733920" y="2895480"/>
            <a:ext cx="17524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4680" y="3124080"/>
            <a:ext cx="13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ronio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95480" y="320040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57400" y="304812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0Mhz Cl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30481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47680" y="2895480"/>
            <a:ext cx="159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ycle_timer_quad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32767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49120" y="3124080"/>
            <a:ext cx="1570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annel_reserved[63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86400" y="35053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1280" y="3352680"/>
            <a:ext cx="10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och_bus_re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39625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49480" y="3809880"/>
            <a:ext cx="129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och_channel[5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86400" y="373392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0560" y="358128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soch_bus_gr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058480" y="762120"/>
            <a:ext cx="51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Link State Machine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66880" y="1447920"/>
            <a:ext cx="2590920" cy="487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52080" y="342900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 State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95280" y="17524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46480" y="152388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1905120"/>
            <a:ext cx="1371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446120" y="1676520"/>
            <a:ext cx="122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295280" y="21337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200" y="1905120"/>
            <a:ext cx="1209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ou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95280" y="2286000"/>
            <a:ext cx="1371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45400" y="2057400"/>
            <a:ext cx="126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out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95280" y="251460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200" y="2286000"/>
            <a:ext cx="113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in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95280" y="2666880"/>
            <a:ext cx="1371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5400" y="2438280"/>
            <a:ext cx="119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ntrol_Din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95280" y="3124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4320" y="289548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3400" y="312408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9528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74720" y="327672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257800" y="1523880"/>
            <a:ext cx="1066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0520" y="13716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pack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1752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323040" y="1600200"/>
            <a:ext cx="116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peed_code[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194940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21960" y="1828800"/>
            <a:ext cx="111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rame_pos[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213372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19440" y="1981080"/>
            <a:ext cx="136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57800" y="2330280"/>
            <a:ext cx="10666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18720" y="2178000"/>
            <a:ext cx="164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next_data_qu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5146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324480" y="236232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57800" y="297180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23040" y="2819520"/>
            <a:ext cx="116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_quad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2743200"/>
            <a:ext cx="1066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22320" y="2590920"/>
            <a:ext cx="1203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ta_quad_stro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3200400"/>
            <a:ext cx="10666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21600" y="3048120"/>
            <a:ext cx="125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sical_ID[15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34290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57800" y="36576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25200" y="3505320"/>
            <a:ext cx="120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check_d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886200"/>
            <a:ext cx="10666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24480" y="3733920"/>
            <a:ext cx="92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RC_cor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26640" y="3276720"/>
            <a:ext cx="88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ck_CR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5943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23040" y="579132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57800" y="6172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24120" y="601992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5780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45720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257800" y="4800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326640" y="396252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25200" y="41911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24480" y="441972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23760" y="46483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578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25560" y="48769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57800" y="57150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23040" y="556272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24120" y="533412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57800" y="54864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57800" y="5257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24480" y="51055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49920" cy="46609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2366280" y="762120"/>
            <a:ext cx="42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opology vs. SCS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50640" y="76212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op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1905120"/>
            <a:ext cx="510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2362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2971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13372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1952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43600" y="2971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10552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5308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53080" y="4267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2362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94360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4267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495680" y="4267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362320" y="190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4" idx="2"/>
            <a:endCxn id="716" idx="0"/>
          </p:cNvCxnSpPr>
          <p:nvPr/>
        </p:nvCxnSpPr>
        <p:spPr>
          <a:xfrm>
            <a:off x="2361960" y="2666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6" idx="2"/>
          </p:cNvCxnSpPr>
          <p:nvPr/>
        </p:nvCxnSpPr>
        <p:spPr>
          <a:xfrm>
            <a:off x="2362320" y="3276360"/>
            <a:ext cx="216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2" name=""/>
          <p:cNvCxnSpPr/>
          <p:nvPr/>
        </p:nvCxnSpPr>
        <p:spPr>
          <a:xfrm flipH="1">
            <a:off x="1601280" y="3809520"/>
            <a:ext cx="83736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17" idx="2"/>
          </p:cNvCxnSpPr>
          <p:nvPr/>
        </p:nvCxnSpPr>
        <p:spPr>
          <a:xfrm>
            <a:off x="2361960" y="3809520"/>
            <a:ext cx="6865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19" idx="2"/>
          </p:cNvCxnSpPr>
          <p:nvPr/>
        </p:nvCxnSpPr>
        <p:spPr>
          <a:xfrm>
            <a:off x="3047760" y="4419720"/>
            <a:ext cx="108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5" name=""/>
          <p:cNvCxnSpPr/>
          <p:nvPr/>
        </p:nvCxnSpPr>
        <p:spPr>
          <a:xfrm>
            <a:off x="6171840" y="2666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1" idx="2"/>
          </p:cNvCxnSpPr>
          <p:nvPr/>
        </p:nvCxnSpPr>
        <p:spPr>
          <a:xfrm flipH="1">
            <a:off x="5335200" y="3276720"/>
            <a:ext cx="83736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7" name=""/>
          <p:cNvCxnSpPr>
            <a:stCxn id="721" idx="2"/>
            <a:endCxn id="723" idx="0"/>
          </p:cNvCxnSpPr>
          <p:nvPr/>
        </p:nvCxnSpPr>
        <p:spPr>
          <a:xfrm>
            <a:off x="6171840" y="3276720"/>
            <a:ext cx="61020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8" name=""/>
          <p:cNvCxnSpPr>
            <a:stCxn id="722" idx="2"/>
            <a:endCxn id="728" idx="0"/>
          </p:cNvCxnSpPr>
          <p:nvPr/>
        </p:nvCxnSpPr>
        <p:spPr>
          <a:xfrm flipH="1">
            <a:off x="4723920" y="3962520"/>
            <a:ext cx="61056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22" idx="2"/>
            <a:endCxn id="727" idx="0"/>
          </p:cNvCxnSpPr>
          <p:nvPr/>
        </p:nvCxnSpPr>
        <p:spPr>
          <a:xfrm>
            <a:off x="5333760" y="3962520"/>
            <a:ext cx="61020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0" name=""/>
          <p:cNvCxnSpPr>
            <a:stCxn id="723" idx="2"/>
            <a:endCxn id="724" idx="0"/>
          </p:cNvCxnSpPr>
          <p:nvPr/>
        </p:nvCxnSpPr>
        <p:spPr>
          <a:xfrm>
            <a:off x="6781320" y="3962520"/>
            <a:ext cx="1080" cy="30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1" name=""/>
          <p:cNvSpPr/>
          <p:nvPr/>
        </p:nvSpPr>
        <p:spPr>
          <a:xfrm>
            <a:off x="6172200" y="1905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3440" y="19051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 Bus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76880" y="23479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idg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2600" y="23623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idg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92360" y="29401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592000" y="35053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30600" y="41148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78160" y="41148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84280" y="4692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78560" y="29718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3800" y="36259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29720" y="3657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45200" y="45720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93960" y="4572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02600" y="457200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38080" y="2819520"/>
            <a:ext cx="335304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2819520"/>
            <a:ext cx="35053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661760" y="554832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 Bu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35520" y="556272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l Bu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781680" y="41148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835400" y="4633920"/>
            <a:ext cx="8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828800" y="32763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7440" y="34290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5640" y="762120"/>
            <a:ext cx="43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Generic 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581280"/>
            <a:ext cx="762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809880"/>
            <a:ext cx="990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905120"/>
            <a:ext cx="304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038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19520" y="1904760"/>
            <a:ext cx="0" cy="190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438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4343400"/>
            <a:ext cx="0" cy="175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5160" y="3886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46200">
            <a:off x="1299960" y="22064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7560" y="38480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p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988280" y="29656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2071800" y="517968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I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105520"/>
            <a:ext cx="1447560" cy="99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3520" y="5295960"/>
            <a:ext cx="11926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13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676520"/>
            <a:ext cx="3886200" cy="480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7880" y="613404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30840" y="2247840"/>
            <a:ext cx="144792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640" y="2438280"/>
            <a:ext cx="11926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13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581280"/>
            <a:ext cx="762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2960" y="3886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648320"/>
            <a:ext cx="304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1814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46200">
            <a:off x="6176880" y="49496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772400" y="213372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6941160" y="31942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1676520"/>
            <a:ext cx="2514600" cy="480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22840" y="613404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Deported 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105520" y="2742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2743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396680" y="38552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1394 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48760" cy="317808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2667960" y="762120"/>
            <a:ext cx="39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acket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664240" cy="4372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514600" y="76212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rotocol’s Struc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516040" y="76212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Cable’s conne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39920" y="3156120"/>
            <a:ext cx="144792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673440" y="3537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02040" y="3537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597120" y="330840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73440" y="4070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02040" y="4070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97120" y="3841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92560" y="36892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30640" y="3689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3825360" y="2698920"/>
            <a:ext cx="1752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35560" y="3841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902040" y="42991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67040" y="253224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ielded signal pai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18960" y="4572000"/>
            <a:ext cx="19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ielded signal pai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26520" y="36576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530440" y="4603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530440" y="3156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82720" y="3156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68440" y="376560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mm typ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516040" y="76212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Cable’s conne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2666880"/>
            <a:ext cx="13716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200400" y="2971800"/>
            <a:ext cx="304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00400" y="3581280"/>
            <a:ext cx="304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200400" y="4267080"/>
            <a:ext cx="304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86360" y="30337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98600" y="3625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01480" y="4343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12200" y="365760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ic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2666880"/>
            <a:ext cx="13716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51520" y="2971800"/>
            <a:ext cx="304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54760" y="3613320"/>
            <a:ext cx="3045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51520" y="4267080"/>
            <a:ext cx="304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037480" y="30337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52960" y="3657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52600" y="4343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434920" y="373392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ic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05320" y="32004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05320" y="3809880"/>
            <a:ext cx="1523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505320" y="3809520"/>
            <a:ext cx="15238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516760" y="7621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Data Signal enco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055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9343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438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20600" y="2514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4628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5576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6560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1784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8456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51312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03880" y="2496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590920" y="3123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7432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00400" y="3124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352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809880" y="31237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625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8680" y="31240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248520" y="3123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4008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0" y="3124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0102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4419720" y="3580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5720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029200" y="35812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81480" y="3886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2590920" y="4266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7432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00400" y="4267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526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809880" y="426672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625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19720" y="4267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57200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029200" y="4266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814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38680" y="42670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7913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6248520" y="42667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008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58000" y="4267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1028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30240" y="32004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9040" y="37339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05640" y="426708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robe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ata =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5400" y="5257800"/>
            <a:ext cx="74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ata strobe coding double the jitter tolerance, thus allowing higher bandwidth us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1904400" y="762120"/>
            <a:ext cx="54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ree Identification ( Step 1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11480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767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8769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1480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0968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4" idx="2"/>
            <a:endCxn id="865" idx="0"/>
          </p:cNvCxnSpPr>
          <p:nvPr/>
        </p:nvCxnSpPr>
        <p:spPr>
          <a:xfrm flipH="1">
            <a:off x="3504960" y="2819520"/>
            <a:ext cx="83880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4" idx="2"/>
            <a:endCxn id="866" idx="0"/>
          </p:cNvCxnSpPr>
          <p:nvPr/>
        </p:nvCxnSpPr>
        <p:spPr>
          <a:xfrm>
            <a:off x="4343040" y="2819520"/>
            <a:ext cx="76284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1" name=""/>
          <p:cNvCxnSpPr>
            <a:stCxn id="865" idx="2"/>
            <a:endCxn id="868" idx="0"/>
          </p:cNvCxnSpPr>
          <p:nvPr/>
        </p:nvCxnSpPr>
        <p:spPr>
          <a:xfrm flipH="1">
            <a:off x="2437920" y="3778200"/>
            <a:ext cx="10677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2" name=""/>
          <p:cNvCxnSpPr>
            <a:stCxn id="865" idx="2"/>
            <a:endCxn id="867" idx="0"/>
          </p:cNvCxnSpPr>
          <p:nvPr/>
        </p:nvCxnSpPr>
        <p:spPr>
          <a:xfrm>
            <a:off x="3505320" y="37782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3" name=""/>
          <p:cNvSpPr/>
          <p:nvPr/>
        </p:nvSpPr>
        <p:spPr>
          <a:xfrm>
            <a:off x="4649760" y="2514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35000" y="3441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9200" y="49212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893760" y="49212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88200" y="3441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38280" y="3809880"/>
            <a:ext cx="990720" cy="83844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0" y="528"/>
                </a:moveTo>
                <a:cubicBezTo>
                  <a:pt x="68" y="404"/>
                  <a:pt x="136" y="280"/>
                  <a:pt x="240" y="192"/>
                </a:cubicBezTo>
                <a:cubicBezTo>
                  <a:pt x="344" y="104"/>
                  <a:pt x="560" y="32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05320" y="38098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380" y="476"/>
                  <a:pt x="232" y="424"/>
                  <a:pt x="144" y="336"/>
                </a:cubicBezTo>
                <a:cubicBezTo>
                  <a:pt x="56" y="248"/>
                  <a:pt x="24" y="5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43400" y="2819520"/>
            <a:ext cx="762120" cy="68580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380" y="476"/>
                  <a:pt x="232" y="424"/>
                  <a:pt x="144" y="336"/>
                </a:cubicBezTo>
                <a:cubicBezTo>
                  <a:pt x="56" y="248"/>
                  <a:pt x="24" y="5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86400" y="4724280"/>
            <a:ext cx="91440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164" y="72"/>
                  <a:pt x="328" y="0"/>
                  <a:pt x="480" y="0"/>
                </a:cubicBezTo>
                <a:cubicBezTo>
                  <a:pt x="632" y="0"/>
                  <a:pt x="840" y="120"/>
                  <a:pt x="912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04040" y="47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ent_notify = Z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1904400" y="762120"/>
            <a:ext cx="54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ree Identification ( Step 2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1480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8769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480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0968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9" name=""/>
          <p:cNvCxnSpPr>
            <a:stCxn id="884" idx="2"/>
            <a:endCxn id="885" idx="0"/>
          </p:cNvCxnSpPr>
          <p:nvPr/>
        </p:nvCxnSpPr>
        <p:spPr>
          <a:xfrm flipH="1">
            <a:off x="3504960" y="2819520"/>
            <a:ext cx="83880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84" idx="2"/>
            <a:endCxn id="886" idx="0"/>
          </p:cNvCxnSpPr>
          <p:nvPr/>
        </p:nvCxnSpPr>
        <p:spPr>
          <a:xfrm>
            <a:off x="4343040" y="2819520"/>
            <a:ext cx="76284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0"/>
          </p:cNvCxnSpPr>
          <p:nvPr/>
        </p:nvCxnSpPr>
        <p:spPr>
          <a:xfrm flipH="1">
            <a:off x="2437920" y="3778200"/>
            <a:ext cx="10677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5" idx="2"/>
            <a:endCxn id="887" idx="0"/>
          </p:cNvCxnSpPr>
          <p:nvPr/>
        </p:nvCxnSpPr>
        <p:spPr>
          <a:xfrm>
            <a:off x="3505320" y="37782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4649760" y="2514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35000" y="3441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059200" y="49212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93760" y="49212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88200" y="3441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38280" y="3809880"/>
            <a:ext cx="990720" cy="83844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0" y="528"/>
                </a:moveTo>
                <a:cubicBezTo>
                  <a:pt x="68" y="404"/>
                  <a:pt x="136" y="280"/>
                  <a:pt x="240" y="192"/>
                </a:cubicBezTo>
                <a:cubicBezTo>
                  <a:pt x="344" y="104"/>
                  <a:pt x="560" y="32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505320" y="3809880"/>
            <a:ext cx="838080" cy="83844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380" y="476"/>
                  <a:pt x="232" y="424"/>
                  <a:pt x="144" y="336"/>
                </a:cubicBezTo>
                <a:cubicBezTo>
                  <a:pt x="56" y="248"/>
                  <a:pt x="24" y="5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43400" y="2819520"/>
            <a:ext cx="762120" cy="68580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380" y="476"/>
                  <a:pt x="232" y="424"/>
                  <a:pt x="144" y="336"/>
                </a:cubicBezTo>
                <a:cubicBezTo>
                  <a:pt x="56" y="248"/>
                  <a:pt x="24" y="5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86400" y="4724280"/>
            <a:ext cx="91440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164" y="72"/>
                  <a:pt x="328" y="0"/>
                  <a:pt x="480" y="0"/>
                </a:cubicBezTo>
                <a:cubicBezTo>
                  <a:pt x="632" y="0"/>
                  <a:pt x="840" y="120"/>
                  <a:pt x="912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04040" y="47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ent_notify = Z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14600" y="3809880"/>
            <a:ext cx="990720" cy="83844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624" y="0"/>
                </a:moveTo>
                <a:cubicBezTo>
                  <a:pt x="556" y="124"/>
                  <a:pt x="488" y="248"/>
                  <a:pt x="384" y="336"/>
                </a:cubicBezTo>
                <a:cubicBezTo>
                  <a:pt x="280" y="424"/>
                  <a:pt x="64" y="496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81280" y="3809880"/>
            <a:ext cx="76212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343400" y="2819520"/>
            <a:ext cx="762120" cy="68580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86400" y="51814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44"/>
                </a:moveTo>
                <a:cubicBezTo>
                  <a:pt x="96" y="72"/>
                  <a:pt x="192" y="0"/>
                  <a:pt x="288" y="0"/>
                </a:cubicBezTo>
                <a:cubicBezTo>
                  <a:pt x="384" y="0"/>
                  <a:pt x="528" y="112"/>
                  <a:pt x="576" y="144"/>
                </a:cubicBezTo>
                <a:cubicBezTo>
                  <a:pt x="624" y="176"/>
                  <a:pt x="600" y="184"/>
                  <a:pt x="57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04040" y="518148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ld_notify = 1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505320" y="2819520"/>
            <a:ext cx="761760" cy="6858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cubicBezTo>
                  <a:pt x="56" y="324"/>
                  <a:pt x="112" y="216"/>
                  <a:pt x="192" y="144"/>
                </a:cubicBezTo>
                <a:cubicBezTo>
                  <a:pt x="272" y="72"/>
                  <a:pt x="432" y="24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581280" y="281952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0"/>
                </a:moveTo>
                <a:cubicBezTo>
                  <a:pt x="424" y="112"/>
                  <a:pt x="368" y="224"/>
                  <a:pt x="288" y="288"/>
                </a:cubicBezTo>
                <a:cubicBezTo>
                  <a:pt x="208" y="352"/>
                  <a:pt x="104" y="368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904400" y="762120"/>
            <a:ext cx="54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ree Identification ( Step 3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1480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769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1480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20968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6" name=""/>
          <p:cNvCxnSpPr>
            <a:stCxn id="911" idx="2"/>
            <a:endCxn id="912" idx="0"/>
          </p:cNvCxnSpPr>
          <p:nvPr/>
        </p:nvCxnSpPr>
        <p:spPr>
          <a:xfrm flipH="1">
            <a:off x="3504960" y="2819520"/>
            <a:ext cx="83880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17" name=""/>
          <p:cNvCxnSpPr>
            <a:stCxn id="911" idx="2"/>
            <a:endCxn id="913" idx="0"/>
          </p:cNvCxnSpPr>
          <p:nvPr/>
        </p:nvCxnSpPr>
        <p:spPr>
          <a:xfrm>
            <a:off x="4343040" y="2819520"/>
            <a:ext cx="76284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18" name=""/>
          <p:cNvCxnSpPr>
            <a:stCxn id="912" idx="2"/>
            <a:endCxn id="915" idx="0"/>
          </p:cNvCxnSpPr>
          <p:nvPr/>
        </p:nvCxnSpPr>
        <p:spPr>
          <a:xfrm flipH="1">
            <a:off x="2437920" y="3778200"/>
            <a:ext cx="10677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19" name=""/>
          <p:cNvCxnSpPr>
            <a:stCxn id="912" idx="2"/>
            <a:endCxn id="914" idx="0"/>
          </p:cNvCxnSpPr>
          <p:nvPr/>
        </p:nvCxnSpPr>
        <p:spPr>
          <a:xfrm>
            <a:off x="3505320" y="37782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4649760" y="2514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35000" y="3441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059200" y="49212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93760" y="49212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488200" y="3441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514600" y="3809880"/>
            <a:ext cx="990720" cy="83844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624" y="0"/>
                </a:moveTo>
                <a:cubicBezTo>
                  <a:pt x="556" y="124"/>
                  <a:pt x="488" y="248"/>
                  <a:pt x="384" y="336"/>
                </a:cubicBezTo>
                <a:cubicBezTo>
                  <a:pt x="280" y="424"/>
                  <a:pt x="64" y="496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81280" y="3809880"/>
            <a:ext cx="76212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343400" y="2819520"/>
            <a:ext cx="762120" cy="68580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86400" y="480060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44"/>
                </a:moveTo>
                <a:cubicBezTo>
                  <a:pt x="96" y="72"/>
                  <a:pt x="192" y="0"/>
                  <a:pt x="288" y="0"/>
                </a:cubicBezTo>
                <a:cubicBezTo>
                  <a:pt x="384" y="0"/>
                  <a:pt x="528" y="112"/>
                  <a:pt x="576" y="144"/>
                </a:cubicBezTo>
                <a:cubicBezTo>
                  <a:pt x="624" y="176"/>
                  <a:pt x="600" y="184"/>
                  <a:pt x="57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04040" y="480060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ld_notify = 1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905120" y="76212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ree Identification ( RCP 1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11480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767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769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1480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0968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6" name=""/>
          <p:cNvCxnSpPr>
            <a:stCxn id="931" idx="2"/>
            <a:endCxn id="932" idx="0"/>
          </p:cNvCxnSpPr>
          <p:nvPr/>
        </p:nvCxnSpPr>
        <p:spPr>
          <a:xfrm flipH="1">
            <a:off x="3504960" y="2819520"/>
            <a:ext cx="83880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7" name=""/>
          <p:cNvCxnSpPr>
            <a:stCxn id="931" idx="2"/>
            <a:endCxn id="933" idx="0"/>
          </p:cNvCxnSpPr>
          <p:nvPr/>
        </p:nvCxnSpPr>
        <p:spPr>
          <a:xfrm>
            <a:off x="4343040" y="2819520"/>
            <a:ext cx="76284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2" idx="2"/>
            <a:endCxn id="935" idx="0"/>
          </p:cNvCxnSpPr>
          <p:nvPr/>
        </p:nvCxnSpPr>
        <p:spPr>
          <a:xfrm flipH="1">
            <a:off x="2437920" y="3778200"/>
            <a:ext cx="10677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2" idx="2"/>
            <a:endCxn id="934" idx="0"/>
          </p:cNvCxnSpPr>
          <p:nvPr/>
        </p:nvCxnSpPr>
        <p:spPr>
          <a:xfrm>
            <a:off x="3505320" y="37782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4649760" y="2514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35000" y="3441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059200" y="49212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3760" y="49212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488200" y="3441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86400" y="4724280"/>
            <a:ext cx="91440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cubicBezTo>
                  <a:pt x="164" y="72"/>
                  <a:pt x="328" y="0"/>
                  <a:pt x="480" y="0"/>
                </a:cubicBezTo>
                <a:cubicBezTo>
                  <a:pt x="632" y="0"/>
                  <a:pt x="840" y="120"/>
                  <a:pt x="912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04040" y="47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ent_notify = Z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514600" y="3809880"/>
            <a:ext cx="990720" cy="838440"/>
          </a:xfrm>
          <a:custGeom>
            <a:avLst/>
            <a:gdLst/>
            <a:ahLst/>
            <a:rect l="l" t="t" r="r" b="b"/>
            <a:pathLst>
              <a:path w="624" h="528">
                <a:moveTo>
                  <a:pt x="624" y="0"/>
                </a:moveTo>
                <a:cubicBezTo>
                  <a:pt x="556" y="124"/>
                  <a:pt x="488" y="248"/>
                  <a:pt x="384" y="336"/>
                </a:cubicBezTo>
                <a:cubicBezTo>
                  <a:pt x="280" y="424"/>
                  <a:pt x="64" y="496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3809880"/>
            <a:ext cx="762120" cy="83844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343400" y="2819520"/>
            <a:ext cx="762120" cy="68580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86400" y="51814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44"/>
                </a:moveTo>
                <a:cubicBezTo>
                  <a:pt x="96" y="72"/>
                  <a:pt x="192" y="0"/>
                  <a:pt x="288" y="0"/>
                </a:cubicBezTo>
                <a:cubicBezTo>
                  <a:pt x="384" y="0"/>
                  <a:pt x="528" y="112"/>
                  <a:pt x="576" y="144"/>
                </a:cubicBezTo>
                <a:cubicBezTo>
                  <a:pt x="624" y="176"/>
                  <a:pt x="600" y="184"/>
                  <a:pt x="57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04040" y="518148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ld_notify = 1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05320" y="2819520"/>
            <a:ext cx="761760" cy="6858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cubicBezTo>
                  <a:pt x="56" y="324"/>
                  <a:pt x="112" y="216"/>
                  <a:pt x="192" y="144"/>
                </a:cubicBezTo>
                <a:cubicBezTo>
                  <a:pt x="272" y="72"/>
                  <a:pt x="432" y="24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81280" y="281952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0"/>
                </a:moveTo>
                <a:cubicBezTo>
                  <a:pt x="424" y="112"/>
                  <a:pt x="368" y="224"/>
                  <a:pt x="288" y="288"/>
                </a:cubicBezTo>
                <a:cubicBezTo>
                  <a:pt x="208" y="352"/>
                  <a:pt x="104" y="368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905120" y="76212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Tree Identification ( RCP 2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767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876920" y="3473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1480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09680" y="4616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0" name=""/>
          <p:cNvCxnSpPr>
            <a:stCxn id="955" idx="2"/>
            <a:endCxn id="956" idx="0"/>
          </p:cNvCxnSpPr>
          <p:nvPr/>
        </p:nvCxnSpPr>
        <p:spPr>
          <a:xfrm flipH="1">
            <a:off x="3504960" y="2819520"/>
            <a:ext cx="83880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1" name=""/>
          <p:cNvCxnSpPr>
            <a:stCxn id="955" idx="2"/>
            <a:endCxn id="957" idx="0"/>
          </p:cNvCxnSpPr>
          <p:nvPr/>
        </p:nvCxnSpPr>
        <p:spPr>
          <a:xfrm>
            <a:off x="4343040" y="2819520"/>
            <a:ext cx="762840" cy="654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2" name=""/>
          <p:cNvCxnSpPr>
            <a:stCxn id="956" idx="2"/>
            <a:endCxn id="959" idx="0"/>
          </p:cNvCxnSpPr>
          <p:nvPr/>
        </p:nvCxnSpPr>
        <p:spPr>
          <a:xfrm flipH="1">
            <a:off x="2437920" y="3778200"/>
            <a:ext cx="10677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63" name=""/>
          <p:cNvCxnSpPr>
            <a:stCxn id="956" idx="2"/>
            <a:endCxn id="958" idx="0"/>
          </p:cNvCxnSpPr>
          <p:nvPr/>
        </p:nvCxnSpPr>
        <p:spPr>
          <a:xfrm>
            <a:off x="3505320" y="3778200"/>
            <a:ext cx="83880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4" name=""/>
          <p:cNvSpPr/>
          <p:nvPr/>
        </p:nvSpPr>
        <p:spPr>
          <a:xfrm>
            <a:off x="4649760" y="2514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35000" y="3441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59200" y="49212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93760" y="49212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488200" y="344160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343400" y="2819520"/>
            <a:ext cx="762120" cy="68580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cubicBezTo>
                  <a:pt x="152" y="52"/>
                  <a:pt x="304" y="104"/>
                  <a:pt x="384" y="192"/>
                </a:cubicBezTo>
                <a:cubicBezTo>
                  <a:pt x="464" y="280"/>
                  <a:pt x="472" y="404"/>
                  <a:pt x="48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10080" y="47242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44"/>
                </a:moveTo>
                <a:cubicBezTo>
                  <a:pt x="96" y="72"/>
                  <a:pt x="192" y="0"/>
                  <a:pt x="288" y="0"/>
                </a:cubicBezTo>
                <a:cubicBezTo>
                  <a:pt x="384" y="0"/>
                  <a:pt x="528" y="112"/>
                  <a:pt x="576" y="144"/>
                </a:cubicBezTo>
                <a:cubicBezTo>
                  <a:pt x="624" y="176"/>
                  <a:pt x="600" y="184"/>
                  <a:pt x="576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28080" y="472428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ld_notify = 1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81280" y="2819520"/>
            <a:ext cx="762120" cy="60948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0"/>
                </a:moveTo>
                <a:cubicBezTo>
                  <a:pt x="424" y="112"/>
                  <a:pt x="368" y="224"/>
                  <a:pt x="288" y="288"/>
                </a:cubicBezTo>
                <a:cubicBezTo>
                  <a:pt x="208" y="352"/>
                  <a:pt x="104" y="368"/>
                  <a:pt x="0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4560" y="762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Generic Controller draf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057400"/>
            <a:ext cx="8384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28195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397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625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0" y="33210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930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159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" y="3854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057400"/>
            <a:ext cx="8384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057400"/>
            <a:ext cx="8380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2057400"/>
            <a:ext cx="8380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765000" y="3351240"/>
            <a:ext cx="133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851920" y="3322440"/>
            <a:ext cx="143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4698360" y="3533040"/>
            <a:ext cx="200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O Contro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6209280" y="3469320"/>
            <a:ext cx="30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Host Bus Adapte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362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895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3276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5812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38098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4876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181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98108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1520" y="213372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0760" y="251460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5600" y="266688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4800" y="30481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720" y="320040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35268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5600" y="358128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5960" y="44956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4800" y="464832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9200" y="480060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320" y="49528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41148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5520" y="388620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43434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0360" y="411480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3276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342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581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8098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5560" y="30481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840" y="320040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7800" y="335268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6720" y="358128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114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6640" y="388620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43434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5160" y="411480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4952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7080" y="47242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33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181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6760" y="49528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8560" y="19810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520" y="5486400"/>
            <a:ext cx="4920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* Local Bus Adapter Interface is Bus Dependent! No generic interface can be give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3360" y="44956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4952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040" y="47242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8360" y="30621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8360" y="32907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93280" y="236232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480" y="259092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30640" y="283356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29920" y="306216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2200" y="342900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43434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11480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120" y="388620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1148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65760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196200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2133000" y="60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Fair Arbitration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691320" cy="316692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2591280" y="68580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Fai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647040" cy="31226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4876920" y="23623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2"/>
          <a:stretch/>
        </p:blipFill>
        <p:spPr>
          <a:xfrm>
            <a:off x="914400" y="4896000"/>
            <a:ext cx="7315200" cy="196200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 flipH="1">
            <a:off x="1066680" y="3962520"/>
            <a:ext cx="381024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066680" y="5124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1066680" y="573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7467480" y="573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00800" y="22860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400800" y="3962520"/>
            <a:ext cx="152388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924680" y="5124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438280" y="35053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801520" y="350532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ochronous (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10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876920" y="39625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36440" y="399240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ynchronous (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5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592360" y="22860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Bus Cycl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2744640" y="6858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Basic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28800" y="2971800"/>
            <a:ext cx="1295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11840" y="327672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32400" y="4114800"/>
            <a:ext cx="194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ochronous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cle 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_ID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267080" y="2362320"/>
            <a:ext cx="12193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45920" y="243828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ide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64520" y="297180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_ID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267080" y="373392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345920" y="3733920"/>
            <a:ext cx="94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VD 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488200" y="4267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_ID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124080" y="3124080"/>
            <a:ext cx="763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24080" y="3657600"/>
            <a:ext cx="763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191120" y="2743200"/>
            <a:ext cx="759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191120" y="4114800"/>
            <a:ext cx="759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6" name=""/>
          <p:cNvCxnSpPr>
            <a:stCxn id="1002" idx="3"/>
            <a:endCxn id="1004" idx="1"/>
          </p:cNvCxnSpPr>
          <p:nvPr/>
        </p:nvCxnSpPr>
        <p:spPr>
          <a:xfrm flipV="1">
            <a:off x="3200400" y="2819160"/>
            <a:ext cx="9914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7" name=""/>
          <p:cNvCxnSpPr>
            <a:stCxn id="1003" idx="3"/>
            <a:endCxn id="1005" idx="1"/>
          </p:cNvCxnSpPr>
          <p:nvPr/>
        </p:nvCxnSpPr>
        <p:spPr>
          <a:xfrm>
            <a:off x="3200400" y="3733920"/>
            <a:ext cx="9914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2592360" y="6858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Basic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676520" y="2819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752480" y="2514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5720" y="25146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1952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20600" y="25146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52680" y="2514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354120" y="2514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2819520" y="2286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34800" y="20178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chronous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148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3962520" y="2209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346280" y="20574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ction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098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676520" y="3962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2480" y="3657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5720" y="36576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81952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20600" y="36576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52680" y="3657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54120" y="3657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11480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36576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9112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4880" y="30481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191120" y="3657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194000" y="36576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814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81480" y="36576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523224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640840" y="304812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_DATA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76520" y="5105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2480" y="4800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755720" y="48006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819520" y="4800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20600" y="48006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352680" y="4800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54120" y="48006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1148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4800" y="48006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191120" y="4800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94000" y="48006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814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81480" y="48006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334120" y="4800600"/>
            <a:ext cx="75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530856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93400" y="419112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e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409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14920" y="4800600"/>
            <a:ext cx="146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2592360" y="68580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Basic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676520" y="2819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752480" y="2514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755720" y="25146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2819520" y="2286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34800" y="20178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chronous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0481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7432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600200" y="39625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76520" y="3657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679760" y="365760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ycle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7180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1800" y="36576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04812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31880" y="30481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048120" y="365760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050640" y="365760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. K Data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95680" y="3657600"/>
            <a:ext cx="763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457200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31360" y="3048120"/>
            <a:ext cx="12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_DATA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7800" y="762120"/>
            <a:ext cx="39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hy Layer draf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057400"/>
            <a:ext cx="30481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27360" y="2957400"/>
            <a:ext cx="990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13372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8040" y="3200400"/>
            <a:ext cx="13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St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hine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a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77800" y="4557600"/>
            <a:ext cx="13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49568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16960" y="213372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5120" y="3095640"/>
            <a:ext cx="9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880" y="4862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260880" y="4329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0880" y="242424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60880" y="242424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343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8195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209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3276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581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3809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98108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1400" y="213372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21000" y="251460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5480" y="266688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4680" y="30481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6600" y="320040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960" y="335268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5840" y="358128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5840" y="44956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4680" y="464832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9080" y="480060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560" y="49528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5400" y="388620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4343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0240" y="411480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00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32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1640" y="29275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1640" y="34290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038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42670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2360" y="3962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7800" y="7621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Link Layer draf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54120" y="2057400"/>
            <a:ext cx="381024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5160" y="2300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35160" y="2452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35160" y="283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5160" y="29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35160" y="33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35160" y="3519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35160" y="36720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35160" y="390060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35160" y="4815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35160" y="4967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35160" y="5119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35160" y="52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3760" y="2071800"/>
            <a:ext cx="63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31560" y="2224080"/>
            <a:ext cx="121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ansmit_Gran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40800" y="260496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85640" y="2757600"/>
            <a:ext cx="92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4840" y="313848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16760" y="329076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63760" y="3443400"/>
            <a:ext cx="72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86000" y="3672000"/>
            <a:ext cx="108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86000" y="45864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64840" y="4738680"/>
            <a:ext cx="68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89240" y="4890960"/>
            <a:ext cx="95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ower_D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39360" y="5043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5160" y="42051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65560" y="3976560"/>
            <a:ext cx="64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35160" y="443376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0880" y="4191120"/>
            <a:ext cx="103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y_Data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99360" y="45720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040" y="4800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64360" y="31384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64360" y="33670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243828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480" y="266688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16640" y="290988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15920" y="313848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8200" y="35053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4419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3040" y="419112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120" y="396252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41911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06760" y="2300400"/>
            <a:ext cx="4572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92560" y="214776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2172600" y="35758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96520" y="237636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44956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31880" y="47242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21337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2040" y="213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08440" y="493884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86200" y="49388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24280" y="25909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6440" y="259092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.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95680"/>
            <a:ext cx="1447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11320" y="448164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.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92560" y="3214800"/>
            <a:ext cx="28191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2960" y="3429000"/>
            <a:ext cx="232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 State Machin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32280" y="4938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2590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3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79840" y="5091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484960" y="42670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886200" y="42670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884760" y="29718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484960" y="297180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37339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0" y="762120"/>
            <a:ext cx="47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FIFO Controller draf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905120"/>
            <a:ext cx="52578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388620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2133720"/>
            <a:ext cx="1600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3886200"/>
            <a:ext cx="9907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720" y="4205160"/>
            <a:ext cx="101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13480" y="2362320"/>
            <a:ext cx="152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Internal Re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4680" y="4191120"/>
            <a:ext cx="9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6576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3733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al Receive FI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3434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44197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ynch. Transmit FI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50292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5105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och. Transmit FI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5257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9132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5257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39625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514600" y="2743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7432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77120" y="27432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410080" y="2743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505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41911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29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3657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38098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40384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92600" y="32767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44520" y="3429000"/>
            <a:ext cx="4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14840" y="358128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3400" y="380988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st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4343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93680" y="411480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62920" y="4572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1840" y="434340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3760" y="495288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33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5410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43440" y="518148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2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5600" y="2209680"/>
            <a:ext cx="41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4800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0680" y="4572000"/>
            <a:ext cx="101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k ( 50 Mhz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5029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360" y="4800600"/>
            <a:ext cx="532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/Re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666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2895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5320" y="31384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5320" y="33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0240" y="2438280"/>
            <a:ext cx="73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800" y="266688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77960" y="2909880"/>
            <a:ext cx="1099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Add[7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6880" y="313848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FIFO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9160" y="3505320"/>
            <a:ext cx="69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4419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4000" y="419112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Data[31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440" y="3962520"/>
            <a:ext cx="106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Add[2..0]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3962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3733920"/>
            <a:ext cx="781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nk_R/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24600" y="762120"/>
            <a:ext cx="62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hy Layer Analog Interface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1523880"/>
            <a:ext cx="2286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7640" y="2133720"/>
            <a:ext cx="136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ble An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2743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95480" y="2895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3760" y="175248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3400" y="2209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10400" y="266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15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48520" y="160020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_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880" y="18288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48160" y="22096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_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880" y="24382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971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3124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9600" y="274320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9240" y="2971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676520" y="3691080"/>
            <a:ext cx="6065640" cy="31669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3372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832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46483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4960" y="762120"/>
            <a:ext cx="64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hy Layer Transmit Encoder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1676520"/>
            <a:ext cx="22860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9080" y="2286000"/>
            <a:ext cx="10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182880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_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195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13372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_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2057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1840" y="190512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_Data[1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86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1480" y="22096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_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1480" y="25909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/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124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0040" y="29718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_Status[3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600200" y="3886200"/>
          <a:ext cx="5973840" cy="23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86200"/>
                    <a:ext cx="597384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523880" y="762120"/>
            <a:ext cx="63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1394 Phy Layer Receiver Decoder Draf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1600200"/>
            <a:ext cx="2286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12400" y="2209680"/>
            <a:ext cx="9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668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59092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_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89548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_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9810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19560" y="18288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_Data[1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6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133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v_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19200" y="25146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/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048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7760" y="289548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_Status[3..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4080" y="17524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4080" y="20574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_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23880" y="3809880"/>
          <a:ext cx="5973840" cy="281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9880"/>
                    <a:ext cx="597384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12:46:38Z</dcterms:created>
  <dc:creator>Rachad ALAO</dc:creator>
  <dc:description/>
  <dc:language>en-US</dc:language>
  <cp:lastModifiedBy>Rachad ALAO</cp:lastModifiedBy>
  <dcterms:modified xsi:type="dcterms:W3CDTF">1998-07-05T12:49:40Z</dcterms:modified>
  <cp:revision>41</cp:revision>
  <dc:subject/>
  <dc:title>Aucun titre de diapositive</dc:title>
</cp:coreProperties>
</file>